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D49-8856-4DD9-A607-28B7719F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321-6115-42CF-ABC2-50B3D56F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1FC-7938-4FCC-83E0-5F097763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9B5-04CF-49D0-9222-DFFFF6BD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2A0-BC7B-425C-AD05-85984FA5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D51B-2BB3-4144-A483-8CE3E4DD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69FF-5561-4FEC-BD1C-0F31E79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72B0-9A04-4968-96C7-45022A0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5E3-EB7F-4E5F-8F58-6BA8E3F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90D6-76D8-40AA-B5EF-F216245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CEF4-B93C-4A29-94E9-B45138D9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3958-4E5D-44F5-AE6C-789A8C9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9DF-4A13-4071-8C7B-DC72331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6EC9-145F-4D18-AB62-9C63741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1DB5-3B0B-4FB8-9E83-8473B81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70BE-E689-4E31-A7F4-07A94EC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18BB-64FF-4265-9B71-4DC065E1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6C88-83E7-40E1-BD91-02351D23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AAA-A748-442C-B9B2-49E3EC59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E4-B2BC-4269-AC2E-8E04297C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E31-915E-4EA9-9242-9D33A08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3E5-279F-43D9-AC41-104F4F3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B87-C95C-4FD4-8E4C-6740BBB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CA4-BD66-4203-93E0-477BD79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CF3-C467-48B6-8FD0-2138FA8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CAF9-D3BE-4E40-819B-7E683EB74F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6B1F-C49B-4BC4-80B0-556E38209B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lexander Graham B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Tyler, Chris, H2O, and S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fa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vented the telephone on March 10, 1876 (He was 29 at the ti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born on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March, 18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ham Bell was born in Edinburgh, Sco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graduated from high school when he was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teleph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Bell’s telephone looks l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2525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57680" y="1380960"/>
            <a:ext cx="3429000" cy="4096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son’s pho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pho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59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 tried to save Abraham Lincoln’s lif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 tried to save President James Garfield’s life by finding a bullet with his metal det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ried once, but the metal detector wouldn’t stop bee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ried in the morning but they never knew what was wr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nally found out what was wrong, but it was too late ( he was laying on a metal spring be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b651"/>
            </a:gs>
            <a:gs pos="100000">
              <a:srgbClr val="46aa9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l’s fa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’s father was d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ather’s name is Alexander Melville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4646"/>
            </a:gs>
            <a:gs pos="100000">
              <a:srgbClr val="f4912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some of the resources we used in this 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esource we used is www.as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resource is library book abou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are some of the resources we used on this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31:37Z</dcterms:created>
  <dc:creator>Montour School District</dc:creator>
  <dc:description/>
  <dc:language>en-US</dc:language>
  <cp:lastModifiedBy>Montour School District</cp:lastModifiedBy>
  <dcterms:modified xsi:type="dcterms:W3CDTF">2008-05-22T13:58:34Z</dcterms:modified>
  <cp:revision>12</cp:revision>
  <dc:subject/>
  <dc:title>Alexander Graham Bell</dc:title>
</cp:coreProperties>
</file>